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8047-2FAF-498A-9765-75B62234B8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9E84-A64E-48F1-92F5-786CA3D765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0F1-8310-4939-B47E-F45ABB7A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043-55E2-4BF0-98C8-6817232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A7F-847E-4077-A033-8B9989B4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968-634B-476B-A344-1AE3E66E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20F-6BE7-433E-AA0E-2CA9D04F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F10-4FF8-4800-952A-7BD8E0F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D9C-E219-4CE5-A61B-C83B3059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927-887C-45E0-8B5B-0309BAEE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6C2-0825-4A72-9342-121B6B3B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82E-A879-4CB5-9120-7208FFE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6E9-3E65-485A-A915-14E83E96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A00-3AC2-4971-B43F-AAF33B7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9DD-FDC3-40C5-9B73-99C6098E825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Marina</cp:lastModifiedBy>
  <cp:lastPrinted>2012-05-02T15:09:26Z</cp:lastPrinted>
  <dcterms:modified xsi:type="dcterms:W3CDTF">2013-04-12T10:15:07Z</dcterms:modified>
  <cp:revision>22</cp:revision>
  <dc:subject/>
  <dc:title>Diapositiva 1</dc:title>
</cp:coreProperties>
</file>